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17BED-430C-4718-8E9A-52139A9859F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B5742-71EE-459B-9F9D-07A7D03F311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A3B45-11BE-46D5-A141-11710D5D27A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67957-9BF6-4FCE-946B-ADB43056F4B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77F37-971A-4421-B16B-96FBA729ECB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B75EA-9D85-4A06-9D00-A1A212E4179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5AEC4-4D31-4F4C-BB15-BBBF16D0FA2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3D83C-6572-45D2-AA92-7CC8A5634EC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C5061-4F11-4A95-817D-BF95655ABD5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EA76B-A3F7-4036-BDBD-54E1781A589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9C7-825C-4DC1-A5BD-347CA6CB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E97-2505-44DE-A389-D1607C95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A38-91AB-4406-937F-2B47B6E8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E2F-A43C-4ECE-B918-8716E884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9B5-88FA-44D1-92B6-82DB71C4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3D9-266C-4202-A353-C7A779DF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4C2-56AA-4760-BF3F-DDE1797D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59B-3873-44C4-81C2-56E48EB3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703-210C-491A-85CE-C7C779A4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392-FE6D-4653-8C52-67B96D4E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02E-76E0-436C-AEF4-598582D4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F1B-5331-4E25-9B2B-6C05F14D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E3B75-A636-4471-A245-E077689F7D2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hyperlink" Target="http://patient.info/health/the-male-reproductive-system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701640" y="1368360"/>
            <a:ext cx="6931080" cy="566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5784840" y="936720"/>
            <a:ext cx="3359160" cy="122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5832360" y="2664000"/>
            <a:ext cx="4194360" cy="101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4"/>
          <a:stretch/>
        </p:blipFill>
        <p:spPr>
          <a:xfrm>
            <a:off x="6335640" y="4389480"/>
            <a:ext cx="3548160" cy="1227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008000" y="282600"/>
            <a:ext cx="7848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 Rectángulo"/>
          <p:cNvSpPr/>
          <p:nvPr/>
        </p:nvSpPr>
        <p:spPr>
          <a:xfrm>
            <a:off x="1440000" y="7067520"/>
            <a:ext cx="71928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patient.info/health/the-male-reproductive-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rte transversal del p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0" t="9994" r="0" b="0"/>
          <a:stretch/>
        </p:blipFill>
        <p:spPr>
          <a:xfrm>
            <a:off x="179280" y="1728720"/>
            <a:ext cx="974412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canismo de la er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3480" y="1895400"/>
            <a:ext cx="9883800" cy="5591160"/>
          </a:xfrm>
          <a:prstGeom prst="rect">
            <a:avLst/>
          </a:prstGeom>
          <a:ln w="0">
            <a:noFill/>
          </a:ln>
        </p:spPr>
      </p:pic>
      <p:sp>
        <p:nvSpPr>
          <p:cNvPr id="58" name="1 CuadroTexto"/>
          <p:cNvSpPr/>
          <p:nvPr/>
        </p:nvSpPr>
        <p:spPr>
          <a:xfrm>
            <a:off x="3543480" y="6093000"/>
            <a:ext cx="5025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l llenarse de sangre los cuerpos cavernosos, el pene alcanza un mayor volumen, tanto en longitud como en diámetro, y una consistencia rígida necesaria para culminar el acto sexual con la penet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611360" y="1695600"/>
            <a:ext cx="7603920" cy="5649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016000" y="1079640"/>
            <a:ext cx="640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2016000" y="431640"/>
            <a:ext cx="64087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28480" y="1008000"/>
            <a:ext cx="820260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016000" y="1170000"/>
            <a:ext cx="5958000" cy="59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2016000" y="433440"/>
            <a:ext cx="640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485640" y="1441440"/>
            <a:ext cx="9142560" cy="5803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016000" y="870120"/>
            <a:ext cx="640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023920" y="1800360"/>
            <a:ext cx="6832800" cy="5140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2016000" y="870120"/>
            <a:ext cx="640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1295280" y="1751040"/>
            <a:ext cx="7631280" cy="51609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871640" y="576360"/>
            <a:ext cx="640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879640" y="1152360"/>
            <a:ext cx="374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ydig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duce testo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3816360" y="1440000"/>
            <a:ext cx="1079640" cy="792000"/>
          </a:xfrm>
          <a:prstGeom prst="line">
            <a:avLst/>
          </a:prstGeom>
          <a:ln w="18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871640" y="7056360"/>
            <a:ext cx="698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rtoli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vide nourishment to the developing sperma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2592360" y="6189840"/>
            <a:ext cx="720720" cy="1155600"/>
          </a:xfrm>
          <a:prstGeom prst="line">
            <a:avLst/>
          </a:prstGeom>
          <a:ln w="18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14:44:07Z</dcterms:created>
  <dc:creator>Rafael Moreno</dc:creator>
  <dc:description/>
  <dc:language>en-US</dc:language>
  <cp:lastModifiedBy>Rafael Moreno</cp:lastModifiedBy>
  <dcterms:modified xsi:type="dcterms:W3CDTF">2016-06-18T09:46:06Z</dcterms:modified>
  <cp:revision>3</cp:revision>
  <dc:subject/>
  <dc:title>Presentación de PowerPoint</dc:title>
</cp:coreProperties>
</file>